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A09-8860-4D47-B5F2-DA8EB693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082-EB49-41D7-AC30-1E287FEF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F08D-671C-4531-9137-6079FCB4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477-EFD6-40A2-AAA0-E51F31D2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E48C-0F94-43DA-AC59-59F0DA88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5B68-2EAA-4B91-A630-578FF30A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EA0A-306E-4239-BEA4-58CB7620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54DB-C35F-4147-9BCF-788F8B02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1CCD-CF71-4803-842E-F237820A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1515-419D-4010-9458-B4DC01C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3B49-6C19-43D5-8F90-F7EA1545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8DF-63CC-49E4-B35A-4D6DFB83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0565-C297-4BE3-A7EA-5C90BE35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F05-3D6F-439A-B306-9995E13E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14E1-775A-4B6E-97F6-99F14FA5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0417-7528-4DAD-97BA-64973669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F5E7-296D-4F62-8BE5-F037F4B6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E3B-B3CF-49CF-AFA4-34B6A9D6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FC8-9729-4985-8AD5-C3B54102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374-57C4-41A1-87DB-10B7C2FF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627-454E-4C6C-AE86-B211CF54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CC2-2BF3-4700-BDE3-2DCE06AE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3BC-79D4-4736-95FF-DDB6394C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BADA-F42B-434A-B7AC-19D92E95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f237f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3e7"/>
                    </a:gs>
                    <a:gs pos="100000">
                      <a:srgbClr val="9f237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03e7"/>
                    </a:gs>
                    <a:gs pos="100000">
                      <a:srgbClr val="753bc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53bcb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ff03e7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03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753bcb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02E9-DE3B-41FE-AED8-FAFE66A4CC7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9f237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39a6dd"/>
                  </a:gs>
                  <a:gs pos="100000">
                    <a:srgbClr val="9f237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f237f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9f237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03e7"/>
                      </a:gs>
                      <a:gs pos="100000">
                        <a:srgbClr val="753bcb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753bcb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ff03e7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03e7"/>
                        </a:gs>
                        <a:gs pos="100000">
                          <a:srgbClr val="753bcb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753bcb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39a6d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03e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753bc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03e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39a6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753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39a6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753bc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03e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0B68-1F45-456C-961A-88DA4F9A6F8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"/>
              </a:rPr>
              <a:t>La clase de espanol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comic"/>
              </a:rPr>
              <a:t>nija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los deport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733920" cy="5334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25:09Z</dcterms:created>
  <dc:creator>WSFCS Workstation</dc:creator>
  <dc:description/>
  <dc:language>en-US</dc:language>
  <cp:lastModifiedBy>WSFCS Workstation</cp:lastModifiedBy>
  <dcterms:modified xsi:type="dcterms:W3CDTF">2010-04-30T18:55:51Z</dcterms:modified>
  <cp:revision>2</cp:revision>
  <dc:subject/>
  <dc:title>La clase de espanol</dc:title>
</cp:coreProperties>
</file>